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3F2-4E5C-47F2-ABC0-A2DD4933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AD9-F16D-487E-A398-3B8E15DF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D6EE-6D8B-4A7B-A5AF-414E0D88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E1BB-9867-43EA-AD2B-F83CC675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F7C8-E229-4D29-9B6A-E13972C7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0BC1-F115-4574-96DC-BE6C1227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3F29-F833-40EF-803E-6DA89905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1A31-F352-46E6-BF07-22E14184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67FC-4C71-4CEA-9682-7BDC41A8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0B3C-30DC-45C4-8A20-FD52B4F4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0B98-49A0-4910-8D5A-37E49591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CC88-38E9-4975-AB34-94FF165C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52DE-59F4-4893-932F-7AC155AE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A91D-BD4E-4C05-A63D-8DFEB997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5C88-5273-44C5-AF5B-694B1BE7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F5BA-0C0F-478F-B70B-8B40B432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6986-DF92-4724-B2B5-441AE3CD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A66-7AB0-4878-B365-07833BE4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5870-BFD8-4511-BB51-D3670896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320-B5A3-409F-8BFD-E881A2B1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F4B-4884-48F3-890A-48E82697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F2F-E676-40B3-9266-AF8226D9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2EC-69C9-4738-96D3-BD53DDF0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D5B-42A7-49C3-88AC-453B9A3E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AF2E-3F21-4DCF-8D6D-EE8B99CC9B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F989-F156-40B1-8753-59B36955E7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.focus.in.ua/img/a/4/7/46374.jpg?124557100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1/Hamburg_Jungfernstieg_%281890-1900%29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6/Frauenkirche_M&#252;nchen_as_seen_from_St._Peter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7/Panorama_cologne_20050114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8/Koelner_Dom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f/Skyline_Frankfurt_am_Main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e/Dresden-Altstadt_von_der_Marienbruecke-II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roorel.ru/images/for_news/fotos/middle_e948ab3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b/Cityscapeberlin2006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a/Berlin.sv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d/Brandenburgertor_SN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e/Berlin_-_Weltzeituhr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upload.wikimedia.org/wikipedia/commons/5/53/Berlin_Fernsehturm_2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f/Berliner_Reichstag_im_Winter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upload.wikimedia.org/wikipedia/commons/6/69/Berlin_Rotes_Rathaus_2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d/Berlinermauer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47920" y="533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Города Герман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5867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ыполнила ученица 7 « В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Казакова Оле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i-main-pic" descr="Картинка 78 из 3253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523880"/>
            <a:ext cx="5000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Файл:Hamburg Jungfernstieg (1890-1900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89080" y="2286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Гамбу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53352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ортовый город расположенный у места впадения реки Эльбы в Северное мор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Население города составляет 1,7 млн. жител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Файл:Frauenkirche München as seen from St. Pe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191120" y="380880"/>
            <a:ext cx="14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юнх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54100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род на реке Изар на юге Германии, в федеральной земле Бавария. Свободный город (нем. </a:t>
            </a:r>
            <a:r>
              <a:rPr b="1" i="1" lang="de-DE" sz="1800" spc="-1" strike="noStrike">
                <a:solidFill>
                  <a:srgbClr val="ffff00"/>
                </a:solidFill>
                <a:latin typeface="Arial"/>
              </a:rPr>
              <a:t>kreisfreie Stadt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), одновременно являющийся столицей Баварии и административного округа Верхняя Бава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селение Мюнхена — 1 364 980 челов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Файл:Panorama cologne 2005011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657600" y="30492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ёль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191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Кёльн является четвёртым по населению и третьим по площади городом Германии, а также одним из крупнейших экономических и культурных центров стра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«Метрополия на Рейне», как часто называют Кёльн, — это один из старейших городов Герма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Файл:Koelner Do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0" y="6858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Кёльн знаменит своим главным храмом -  Кёльнским собором, одним из главных католических храмов Герман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Файл:Skyline Frankfurt am Ma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2640" y="304920"/>
            <a:ext cx="35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Франкфурт - на - Май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5333760"/>
            <a:ext cx="786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Франкфурт расположен на обоих берегах Май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Административно делится на 43 района и 118 городских округ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Численность населения —   1,5 млн. 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Файл:Dresden-Altstadt von der Marienbruecke-I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15840" y="3445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Дрезд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51973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Является одним из крупнейших центров промышленности, транспорта и культуры Герма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Население 510 776 че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Занимает площадь 328,30 кв.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Файл:Dresden-Frauenkirche-View.from.top.01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257800" y="380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 немецкой литературе Дрезден получил название 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Флоренции на Эльбе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609480"/>
            <a:ext cx="83822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ывод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Кроме столицы Германии – Берлина, крупнейшими городами являются также Гамбург, Мюнхен, Кёльн, Франкфурт -на – Майне и Дрезде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Население этих городов превышает 1 млн.челов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Они являются крупными промышленными, культурными центрами Германии и знамениты своими достопримечательностями, которые отражают многовековую историю страны, её особенности архитектуры и отличительные черты от других стран м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8080" y="380880"/>
            <a:ext cx="75438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нформационные ресур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http://ru.wikipedia.org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http://www.turizm.ru/german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http://www.ongermany.ru/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209680" y="2362320"/>
            <a:ext cx="487692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-main-pic" descr="Картинка 90 из 3403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17680" y="722160"/>
            <a:ext cx="313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едеративная республика Герм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РГ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; нем. </a:t>
            </a:r>
            <a:r>
              <a:rPr b="0" i="1" lang="de-DE" sz="1800" spc="-1" strike="noStrike">
                <a:solidFill>
                  <a:srgbClr val="ffff00"/>
                </a:solidFill>
                <a:latin typeface="Arial"/>
              </a:rPr>
              <a:t>Deutschland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0" i="1" lang="de-DE" sz="1800" spc="-1" strike="noStrike">
                <a:solidFill>
                  <a:srgbClr val="ffff00"/>
                </a:solidFill>
                <a:latin typeface="Arial"/>
              </a:rPr>
              <a:t>Bundesrepublik Deutschland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) — государство в Центральной Европ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Файл:Cityscapeberlin20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058840" y="685800"/>
            <a:ext cx="45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толица Германии – Берли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Файл:Berlin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0"/>
            <a:ext cx="6781680" cy="4584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600" y="5029200"/>
            <a:ext cx="51055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ерлин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(нем. </a:t>
            </a:r>
            <a:r>
              <a:rPr b="1" i="1" lang="de-DE" sz="1800" spc="-1" strike="noStrike">
                <a:solidFill>
                  <a:srgbClr val="ffff00"/>
                </a:solidFill>
                <a:latin typeface="Arial"/>
              </a:rPr>
              <a:t>Berlin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) - самый большой город Германии как по количеству населения, так и по площад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щадь — 892 кв. 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еление- 3 420 786 челове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Файл:Brandenburgertor S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07000" y="316080"/>
            <a:ext cx="46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Достопримечательности Берлина: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30481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Бранденбургские вор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Файл:Berlin - Weltzeituh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Файл:Berlin Fernsehturm 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V="1" rot="10827600">
            <a:off x="2280600" y="6172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Часы мира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66720" y="874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Телебаш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Файл:Berliner Reichstag im Win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505320"/>
            <a:ext cx="4724280" cy="3352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Файл:Berlin Rotes Rathaus 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0"/>
            <a:ext cx="4419720" cy="3525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14400" y="274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ейх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49040" y="377352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расная ратуш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" descr="Файл:Berlinermau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07080" y="82692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Берлинская ст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-main-pic" descr="Картинка 38 из 339090"/>
          <p:cNvPicPr/>
          <p:nvPr/>
        </p:nvPicPr>
        <p:blipFill>
          <a:blip r:embed="rId1"/>
          <a:stretch/>
        </p:blipFill>
        <p:spPr>
          <a:xfrm>
            <a:off x="4738680" y="1600200"/>
            <a:ext cx="4405320" cy="5257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304920"/>
            <a:ext cx="8037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рупнейшие горо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Гамбург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Мюнхе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Кёль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Франкфурт - на – Майн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Дрезде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08</cp:lastModifiedBy>
  <dcterms:modified xsi:type="dcterms:W3CDTF">2009-10-23T10:51:1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